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8248-5EEC-4B3B-90DE-6DA9DDF53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F89E0-318E-48D8-90AF-0FB60FED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B560-864F-40A2-A6A0-3C11F2F4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7F51-EE9B-4118-866D-81BA98BA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FA9BD-02C4-43EB-9FEE-71AAEE3D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AAD9-98DE-4B60-BCCF-1B2629BE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96DFE-47CF-4A47-A84E-B1154C9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DE55F-E272-4D5D-BFF2-0A4C09A9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40555-5321-4903-AA17-F2AD9FF0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51131-8973-4D35-9C40-8D19584A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610D6-C75F-4AD5-966F-956662F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56321-E3F0-4AC2-95DC-65073432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37833-1491-4D05-8A89-52F42A83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AD87-C8A0-4CFB-A990-7FBB8D3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53474-FF35-4CDF-AE6A-1CE0DBF0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5D1E8-A45A-44C6-B9B1-C102B63A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3872D-2082-4178-8217-F49BB3BE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25712-23A6-4916-A715-35BD015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175C-95BB-42DE-BC07-85EAAA28E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897E9-404C-4234-9C6E-9B0A4220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1D9D0-532D-4B98-BE94-08F4224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DA80-E6DA-4667-847C-E0FDDE82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EC50-B6B0-4A75-895E-D3AFB9DE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3B5D-ACB5-4FB5-95C4-BFC1A36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7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f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6933600" y="0"/>
            <a:ext cx="144756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cc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cc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E706-FE8A-4E0A-A39D-C38606516F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72356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384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17AA-440D-4779-AEA8-2A6F688276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2440080"/>
            <a:ext cx="845676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f1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50676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 (Arabic)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 (Arabic)"/>
            </a:endParaRPr>
          </a:p>
          <a:p>
            <a:pPr lvl="2" marL="914400" algn="ctr" rtl="1">
              <a:spcBef>
                <a:spcPts val="601"/>
              </a:spcBef>
              <a:buClr>
                <a:srgbClr val="00ffcc"/>
              </a:buClr>
              <a:buFont typeface="Times New Roman (Arabic)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 (Arabic)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4" marL="1828800" algn="ctr" rtl="1">
              <a:spcBef>
                <a:spcPts val="499"/>
              </a:spcBef>
              <a:buClr>
                <a:srgbClr val="00ffcc"/>
              </a:buClr>
              <a:buFont typeface="Times New Roman (Arabic)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 (Arabic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bcbcb"/>
                </a:solidFill>
                <a:latin typeface="Times New Roman"/>
                <a:cs typeface="Hesham Cortoba"/>
              </a:rPr>
              <a:t>دليل الحاج اليومي للمفرد والقارن والمتمتع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02840" y="3710160"/>
            <a:ext cx="79851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Monotype Koufi"/>
              </a:rPr>
              <a:t>مادة الفق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khalaad al-arabeh"/>
              </a:rPr>
              <a:t>لطالبات المستوى الثاني لمعهد الفرقان لإعداد معلمات القرآن الكريم بمحافظة شرورة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khalaad al-arabeh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  <a:ea typeface="khalaad al-arabeh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khalaad al-arabeh"/>
              </a:rPr>
              <a:t>معلم المادة / أ. مبروك بن عبد الله الصيعر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تصميم / ماهر بايوسف بالعبي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bcbcb"/>
                </a:solidFill>
                <a:latin typeface="Times New Roman"/>
              </a:rPr>
              <a:t>ملحوظة مهمة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 (Arabic)"/>
              </a:rPr>
              <a:t>بعد التحلل الأصغر يحل للحاج كل شيء سوى وطء الزوجة . أما بعد طواف الإفاضة ( التحلل الأكبر ) فيحل له كل شيء حتى الوطء إذا كان قدّم السعي في الإفراد والقران ، أما المتمتع فلا بد له من السعي قبل التحلل الأكبر .</a:t>
            </a:r>
            <a:endParaRPr b="1" lang="en-US" sz="28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23" name=""/>
          <p:cNvSpPr/>
          <p:nvPr/>
        </p:nvSpPr>
        <p:spPr>
          <a:xfrm>
            <a:off x="7740720" y="4437000"/>
            <a:ext cx="1258920" cy="4017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ذكر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013360"/>
            <a:ext cx="8713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 (Arabic)"/>
              </a:rPr>
              <a:t>أيام الحج أيام دعاء وذكر وقراءة قرآن ودعوة إلى الله ، فاستغل وقتك فيما ينفعك ، واحذر من الخوض فيما لا ينفع ، قال الله تعالى : ( فلا رفث ولا فسوق ولا جدال في الحج )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أركان الحج وواجباته وسننه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3040" y="1915920"/>
            <a:ext cx="3809880" cy="4105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 (Arabic)"/>
              </a:rPr>
              <a:t>سنن الحج :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اغتسال عند الإحرام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إحرام في إزار ورداء أبيض للرجال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تلبية ورفع الصوت بها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مبيت بمنى ليلة عرف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تقبيل الحجر الأسود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إضطباع : ( جعل الرداء تحت الإبط الأيمن في طواف القدوم أو العمرة )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رمل ( الإسراع في الأشواط الثلاثة الأول من طواف القدوم أو العمرة ) 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طواف القدوم للقارن والمفرد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916280"/>
            <a:ext cx="3809880" cy="41148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 (Arabic)"/>
              </a:rPr>
              <a:t>أركان الحج :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إحرام ( النية ): </a:t>
            </a:r>
            <a:r>
              <a:rPr b="1" lang="ar-SA" sz="1200" spc="-1" strike="noStrike">
                <a:solidFill>
                  <a:srgbClr val="ffffff"/>
                </a:solidFill>
                <a:latin typeface="Times New Roman (Arabic)"/>
              </a:rPr>
              <a:t>وهو نية الدخول في النسك .</a:t>
            </a:r>
            <a:endParaRPr b="1" lang="en-US" sz="12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وقوف بعرف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طواف ( طواف الإفاضة )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سعي بين الصفا والمرو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 (Arabic)"/>
              </a:rPr>
              <a:t>واجبات الحج :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إحرام من الميقات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وقوف بعرفة إلى الليل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مبيت بمزدلفة ليلة النح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مبيت بمنى ليالي التشريق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رمي الجما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طواف الوداع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حلق أو التقصي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28" name=""/>
          <p:cNvSpPr/>
          <p:nvPr/>
        </p:nvSpPr>
        <p:spPr>
          <a:xfrm>
            <a:off x="7667640" y="6093000"/>
            <a:ext cx="1549440" cy="43164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حكم تركها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6000" y="6021360"/>
            <a:ext cx="7308720" cy="83664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4000"/>
          </a:bodyPr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Times New Roman (Arabic)"/>
              </a:rPr>
              <a:t>من ترك ركناً لم يتم حجه ، ومن ترك واجباً فإنه يجبره بدم يذبح في الحرم ويوزع على فقراء الحرم ، ومن ترك سنة فلا شيء عليه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3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6" dur="5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bcbcb"/>
                </a:solidFill>
                <a:latin typeface="Times New Roman"/>
              </a:rPr>
              <a:t>محظورات الإحرام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3040" y="1981080"/>
            <a:ext cx="3809880" cy="41148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2160" rIns="92160" tIns="46080" bIns="46080" anchor="t">
            <a:normAutofit fontScale="85000"/>
          </a:bodyPr>
          <a:p>
            <a:pPr marL="32364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 (Arabic)"/>
              <a:buAutoNum type="arabicPeriod" startAt="8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قتل صيد البر أو المعاونة في ذلك ، أو تنفيره من مكانه ، وفي قتله عمداً الفدية بما يماثله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2364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 (Arabic)"/>
              <a:buAutoNum type="arabicPeriod" startAt="8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مباشرة الزوجة لشهوة فيما دون الفرج كاللمس والتقبيل ونحوه ، فإن أنزل لم يفسد حجه وعليه بدنه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2364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 (Arabic)"/>
              <a:buAutoNum type="arabicPeriod" startAt="8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عقد النكاح له أو لغيره ، ولا فدية فيه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2364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Times New Roman (Arabic)"/>
              <a:buAutoNum type="arabicPeriod" startAt="8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وطء في الفرج : فإن كان قبل التحلل الأول فسد حجه ويمضي فيه ويقضيه وجوباً في العام الثاني ، ويجب عليه بدنة يذبحها في الحرم ، وإن كان بعد التحلل الأول فالحج صحيح وعليه شا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2160" rIns="92160" tIns="46080" bIns="46080" anchor="t">
            <a:normAutofit fontScale="85000"/>
          </a:bodyPr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حلق الشع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تقليم الأظاف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تغطية رأس الرجل بملاصق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 لبس المخيط للرجال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ستعمال الطيب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لبس القفازين للمرأ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-323640" algn="r" rtl="1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لبس النقاب للمرأة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712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ومن فعل شيئاً من هذه المحظورات السبعة جاهلاً أو ناسياً فلا شيء عليه ، ومن فعل شيئاً منها متعمداً فعليه الكفارة على التخيير : ” صيام ثلاثة أيام ، أو إطعام ستة مساكين ، أو ذبح شاة ”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8844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transition spd="med"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3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الهد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من لم يجد الهدي أو عجز عن قيمته يصوم ثلاثة أيام في الحج وسبعة إذا رجع إلى أهله ، ويجوز صيامها متتالية أو متفرقة قبل العيد أو بعده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ما لا يجوز في الأضاحي : العوراء البيّن عورها ، والعرجاء البيّن ضلعها ، والمريضة البيّن مرضها ، والهزيلة التي لا تنقي ، والسلامة من عضب القرن والأذن وهو ذهاب أكثرها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cbcbcb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مكان الذبح : منى ويجوز في مكة وبقية الحرم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وقت الذبح : يوم العيد وثلاثة أيام التشريق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نوعه : الإبل أو البقر أو الغنم ( الضأن والماعز )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السن المجزئة : الضأن ما تم ستة أشهر ، ومن الماعز ما تم له سنة ، ومن البقر ما تم له سنتان ، ومن الإبل ما تم له خمس سنين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15360" indent="-315360" algn="r" rtl="1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تجزئ الواحدة من الضأن أو الماعز عن الشخص الواحد ، والواحدة من الإبل والبقر عن سبعة أشخاص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1536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transition spd="med">
    <p:random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ختاماً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9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</a:rPr>
              <a:t>نسأل الله تعالى أن نكون قد وفقنا لتسهيل شرح وفهم صفة الحج وبعض المسائل المتعلقة بها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marL="274320" indent="-274320" algn="r" rtl="1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</a:rPr>
              <a:t>ونسأل الله أن يجزي كل من أعان على إنجاح هذا العرض المختصر خير الجزاء، وأن يأجر كل من ساهم في نشره وتعليمه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</a:rPr>
              <a:t>وصلى الله على سيدنا محمد وعلى آله وصحبه أجمعين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38" name=""/>
          <p:cNvSpPr/>
          <p:nvPr/>
        </p:nvSpPr>
        <p:spPr>
          <a:xfrm>
            <a:off x="466560" y="59421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Times New Roman"/>
              </a:rPr>
              <a:t>المرجع : نشرة ( دليل الحاج اليومي ) من إصدار وزارة الشؤون الإسلامية والأوقاف والدعوة والإرشاد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1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4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7240" y="68256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bcbcb"/>
                </a:solidFill>
                <a:latin typeface="Times New Roman"/>
              </a:rPr>
              <a:t>ملخص لما ينبغي للحاج أن يفعله خلال أيام الحج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 (Arabic)"/>
              </a:rPr>
              <a:t>في هذا الدرس ما يلي :</a:t>
            </a:r>
            <a:endParaRPr b="1" lang="en-US" sz="28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ا يفعله الحاج قبل يوم التروية ( من مروره على الميقات )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ا يفعله الحاج في يوم التروية (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 ذو الحجة )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ا يفعله الحاج في يوم عرفة (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9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 ذو الحجة )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ا يفعله الحاج في يوم النحر (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10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 ذو الحجة )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ا يفعله الحاج في أيام التشريق (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11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،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12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، 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13</a:t>
            </a: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 ذو الحجة) 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أركان الحج وواجباته وسننه 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محظورات الإحرام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lvl="1" marL="660960" indent="-254160" algn="r" rtl="1">
              <a:spcBef>
                <a:spcPts val="601"/>
              </a:spcBef>
              <a:buClr>
                <a:srgbClr val="ffffff"/>
              </a:buClr>
              <a:buFont typeface="Times New Roman (Arabic)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 (Arabic)"/>
              </a:rPr>
              <a:t>الهدي .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قبل يوم التروية ( 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ذو الحجة 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39000" y="1981080"/>
            <a:ext cx="2952720" cy="41148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420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مفرد بالحج وحده :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marL="420480" indent="-420480" algn="r" rtl="1"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إحرام من الميقات ويلبي قائلاً ( لبيك حجاً )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420480" indent="-420480" algn="r" rtl="1"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طواف القدوم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420480" indent="-420480" algn="r" rtl="1"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سعي : إذا لم يسع المفرد بعد الطواف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420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	</a:t>
            </a: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أي : ذهب إلى منى مباشرة، عليه أن يسعى بعد طواف الإفاضة ويبقى على إحرامه إلى يوم النحر 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95" name=""/>
          <p:cNvSpPr/>
          <p:nvPr/>
        </p:nvSpPr>
        <p:spPr>
          <a:xfrm>
            <a:off x="7667640" y="6237360"/>
            <a:ext cx="147636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ملحوظة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61992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421200" indent="-421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لا يحرم من الميقات ساكنوا مكة ولا المقيمون فيها ويحرمون من منازلهم بمك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86280" y="1978200"/>
            <a:ext cx="2952720" cy="41148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31920" indent="-331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قارن بين الحج والعمر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إحرام من الميقات ويلبي قائلاً ( لبيك عمرة وحجاً 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طواف القدوم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سعي : ويجوز تأخيره بعد طواف الإفاضة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( ويبقى المحرم في إحرامه , وعليه أن يجتنب محظورات الإحرام إلى يوم النحر 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200" y="1974960"/>
            <a:ext cx="2953080" cy="411804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31920" indent="-33192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متمتع بالعمرة إلى الحج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إحرام من الميقات ويلبي قائلاً ( لبيك عمرةً متمتعاً بها إلى الحج 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طواف القدوم  ( العمرة 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سعي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تقصير الشعر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تحلل من الإحرام ، والبقاء حلالاً إلى يوم التروية (</a:t>
            </a: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8</a:t>
            </a: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ذوالحجة)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1920" indent="-3319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bcbcb"/>
                </a:solidFill>
                <a:latin typeface="Times New Roman"/>
              </a:rPr>
              <a:t>يوم التروية ( </a:t>
            </a:r>
            <a:r>
              <a:rPr b="0" lang="ar-SA" sz="3600" spc="-1" strike="noStrike">
                <a:solidFill>
                  <a:srgbClr val="cbcbcb"/>
                </a:solidFill>
                <a:latin typeface="Times New Roman"/>
              </a:rPr>
              <a:t>8</a:t>
            </a:r>
            <a:r>
              <a:rPr b="0" lang="ar-SA" sz="3600" spc="-1" strike="noStrike">
                <a:solidFill>
                  <a:srgbClr val="cbcbcb"/>
                </a:solidFill>
                <a:latin typeface="Times New Roman"/>
              </a:rPr>
              <a:t> ذو الحجة 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39000" y="1981080"/>
            <a:ext cx="2952720" cy="41148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457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مفرد بالحج وحده :</a:t>
            </a:r>
            <a:endParaRPr b="1" lang="en-US" sz="2400" spc="-1" strike="noStrike">
              <a:solidFill>
                <a:srgbClr val="ffffff"/>
              </a:solidFill>
              <a:latin typeface="Times New Roman (Arabic)"/>
            </a:endParaRPr>
          </a:p>
          <a:p>
            <a:pPr marL="457200" indent="-457200" algn="r" rtl="1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ذهاب إلى منى 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45720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( الصلاة فيها خمس صلوات قصراً من غير جمع ، للرباعية الظهر والعصر ، والمغرب والعشاء والفجر ).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6237360"/>
            <a:ext cx="147636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Arial"/>
              </a:rPr>
              <a:t>ملحوظة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199200"/>
            <a:ext cx="777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421200" indent="-421200" algn="ct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 (Arabic)"/>
              </a:rPr>
              <a:t>لا يحرم من الميقات ساكنوا مكة ولا المقيمون فيها ويحرمون من منازلهم بمك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978200"/>
            <a:ext cx="2952720" cy="411480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5040" indent="-3650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قارن بين الحج والعمر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ذهاب إلى منى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( الصلاة فيها خمس صلوات قصراً من غير جمع ، للرباعية الظهر والعصر ، والمغرب والعشاء والفجر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" y="1974960"/>
            <a:ext cx="2953080" cy="411804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65040" indent="-3650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Times New Roman (Arabic)"/>
              </a:rPr>
              <a:t>المتمتع بالعمرة إلى الحج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r" rtl="1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Times New Roman (Arabic)"/>
              </a:rPr>
              <a:t>الذهاب إلى منى بعد الإحرام من محل الإقامة 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 (Arabic)"/>
              </a:rPr>
              <a:t>( الصلاة فيها خمس صلوات قصراً من غير جمع ، للرباعية الظهر والعصر ، والمغرب والعشاء والفجر 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5040" indent="-36504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8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5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يوم عرفة ( 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ذو الحجة 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 algn="r" rtl="1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Times New Roman (Arabic)"/>
                <a:cs typeface="AL-Mohanad Bold"/>
              </a:rPr>
              <a:t>التوجه إلى عرفة بعد شروق الشمس يصلي فيها الظهر والعصر في وقت الأولى بأذان واحد وإقامتين (جمعاً وقصراً) جمع تقديم ، ويسن للحاج الإكثار من ذكر الله وقراءة القرآن والدعاء يوم عرفة ، والسنة استقبال القبلة عند الدعاء لا استقبال الجبل ، ويسن أن يرفع يديه عند الدعاء كما فعل النبي صلى الله عليه وسلم ، ويكره صوم يوم عرفة للحاج – ووادي عرنة ليس من أرض عرفة فلا يصح الوقوف فيه –       ولا يشرع صعود جبل عرفة .</a:t>
            </a:r>
            <a:endParaRPr b="1" lang="en-US" sz="2200" spc="-1" strike="noStrike">
              <a:solidFill>
                <a:srgbClr val="ffffff"/>
              </a:solidFill>
              <a:latin typeface="Times New Roman (Arabic)"/>
            </a:endParaRPr>
          </a:p>
          <a:p>
            <a:pPr marL="301680" indent="-301680" algn="r" rtl="1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Times New Roman (Arabic)"/>
                <a:cs typeface="AL-Mohanad Bold"/>
              </a:rPr>
              <a:t>التوجه إلى مزدلفة بعد غروب الشمس بسكينة ووقار .</a:t>
            </a:r>
            <a:endParaRPr b="1" lang="en-US" sz="2200" spc="-1" strike="noStrike">
              <a:solidFill>
                <a:srgbClr val="ffffff"/>
              </a:solidFill>
              <a:latin typeface="Times New Roman (Arabic)"/>
            </a:endParaRPr>
          </a:p>
          <a:p>
            <a:pPr marL="301680" indent="-301680" algn="r" rtl="1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Times New Roman (Arabic)"/>
                <a:cs typeface="AL-Mohanad Bold"/>
              </a:rPr>
              <a:t>يصلي المغرب والعشاء حين الوصول إلى مزدلفة جمعاً وقصراً (جمع تأخير) بأذان واحد وإقامتين .</a:t>
            </a:r>
            <a:endParaRPr b="1" lang="en-US" sz="2200" spc="-1" strike="noStrike">
              <a:solidFill>
                <a:srgbClr val="ffffff"/>
              </a:solidFill>
              <a:latin typeface="Times New Roman (Arabic)"/>
            </a:endParaRPr>
          </a:p>
          <a:p>
            <a:pPr marL="301680" indent="-301680" algn="r" rtl="1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Times New Roman (Arabic)"/>
                <a:cs typeface="AL-Mohanad Bold"/>
              </a:rPr>
              <a:t>يلتقط سبع حصيات لرمي جمرة العقبة (الكبرى) وإن أخذها من منى فجائز والحصاة بين الحمص والبندق ، قدر حبة الفول .</a:t>
            </a:r>
            <a:endParaRPr b="1" lang="en-US" sz="2200" spc="-1" strike="noStrike">
              <a:solidFill>
                <a:srgbClr val="ffffff"/>
              </a:solidFill>
              <a:latin typeface="Times New Roman (Arabic)"/>
            </a:endParaRPr>
          </a:p>
          <a:p>
            <a:pPr marL="301680" indent="-301680" algn="r" rtl="1">
              <a:lnSpc>
                <a:spcPct val="80000"/>
              </a:lnSpc>
              <a:spcBef>
                <a:spcPts val="55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200" spc="-1" strike="noStrike">
                <a:solidFill>
                  <a:srgbClr val="ffffff"/>
                </a:solidFill>
                <a:latin typeface="Times New Roman (Arabic)"/>
                <a:cs typeface="AL-Mohanad Bold"/>
              </a:rPr>
              <a:t>يبيت في مزدلفة ويصلي فيها صلاة الفجر مبكراً بها ويكثر من الدعاء والذكر بعد الصلاة ، ويستحب الوقوف عند المشعر الحرام ، وإكثار الدعاء حتى الإسفار ، وهو بياض النهار وقبل طلوع الشمس ، والضعفة يجوز لهم الخروج بعد نصف الليل ( بعد غروب القمر ) .</a:t>
            </a:r>
            <a:endParaRPr b="1" lang="en-US" sz="2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لجميع الأنسا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يوم النحر ( 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ذو الحجة 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39000" y="1980720"/>
            <a:ext cx="2952720" cy="44038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txBody>
          <a:bodyPr lIns="92160" rIns="92160" tIns="46080" bIns="46080" anchor="t">
            <a:normAutofit fontScale="86000"/>
          </a:bodyPr>
          <a:p>
            <a:pPr marL="3931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 (Arabic)"/>
              </a:rPr>
              <a:t>المفرد بالحج وحده :</a:t>
            </a:r>
            <a:endParaRPr b="1" lang="en-US" sz="20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توجه إلى منى قبل شروق الشمس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رمي جمرة العقبة الكبرى بسبع حصيات مكبراً مع كل حصاة 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حلق الشعر أو تقصيره والحلق أفضل والمرأة تقصر من شعرها قدر أنملة 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تحلل من الإحرام ولبس الثياب (التحلل الأصغر) 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طواف الإفاضة (التحلل الأكبر) ركن ، ويجوز تأخير طواف الإفاضة إلى اليوم الحادي عشر أو الثاني عشر أو مع طواف الوداع 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  <a:p>
            <a:pPr marL="393120" indent="-393120" algn="r" rtl="1"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سعي بعد طواف الإفاضة إن لم يسع مع طواف القدوم .</a:t>
            </a:r>
            <a:endParaRPr b="1" lang="en-US" sz="16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10" name=""/>
          <p:cNvSpPr/>
          <p:nvPr/>
        </p:nvSpPr>
        <p:spPr>
          <a:xfrm>
            <a:off x="3086280" y="1978200"/>
            <a:ext cx="2952720" cy="440352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21120" indent="-3211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 (Arabic)"/>
              </a:rPr>
              <a:t>القارن بين الحج والعمرة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رمي جمرة العقبة الكبرى بسبع حصيات مكبراً مع كل حصاة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نحر الهدي ويستثنى من ذلك سكان الحرم فلا هدي عليهم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حلق الشعر أو تقصيره  ، والمرأة تقصر من شعرها قدر أنملة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تحلل من الإحرام ولبس الثياب ، التحلل الأصغر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طواف الإفاضة ( ركن )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21120" indent="-3211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ويجوز تأخيره إلى اليوم الحادي عشر أو الثاني عشر أو مع طواف الوداع ( التحلل الأكبر ) ، والسعي إن لم يسع مع طواف القدوم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200" y="1974960"/>
            <a:ext cx="2953080" cy="440676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317520" indent="-31752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00"/>
                </a:solidFill>
                <a:latin typeface="Times New Roman (Arabic)"/>
              </a:rPr>
              <a:t>المتمتع بالعمرة إلى الحج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رمي جمرة العقبة الكبرى بسبع حصيات مكبراً مع كل حصاة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نحر الهدي ويستمر إلى غروب الشمس من اليوم الثالث عشر ويستثنى من ذلك سكان الحرم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حلق الشعر أو تقصيره والحلق أفضل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تحلل من الإحرام ولبس الثياب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طواف الإفاضة ( ركن ) ويجوز تأخيره كما سبق مع القارن والمفرد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Times New Roman (Arabic)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ffffff"/>
                </a:solidFill>
                <a:latin typeface="Times New Roman (Arabic)"/>
              </a:rPr>
              <a:t>السعي ( ركن ) يجوز تأخيره لليوم التالي أو الذي يليه أو مع طواف الوداع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7520" indent="-31752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9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46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7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يوم القر ( 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cbcbcb"/>
                </a:solidFill>
                <a:latin typeface="Times New Roman"/>
              </a:rPr>
              <a:t> ذو الحجة )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7698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 (Arabic)"/>
              </a:rPr>
              <a:t>المبيت في منى ليلة الحادي عشر ( واجب )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 (Arabic)"/>
              </a:rPr>
              <a:t>رمي الجمرات الثلاث بعد الزوال ابتداءً بالصغرى فالوسطى ثم الكبرى ( سبع حصيات لكل جمرة ) يكبر مع كل حصاة ويدعو بعد الصغرى والوسطى فقط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2060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لجميع الأنسا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6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يوم النفر الأول ( </a:t>
            </a: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12</a:t>
            </a: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 ذو الحجة )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7698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 (Arabic)"/>
              </a:rPr>
              <a:t>المبيت في منى ليلة الثاني عشر ( واجب )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marL="572760" indent="-57276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Times New Roman (Arabic)"/>
              </a:rPr>
              <a:t>رمي الجمرات الثلاث بعد الزوال ابتداءً بالصغرى فالوسطى ثم الكبرى ( سبع حصيات لكل جمرة ) يكبر مع كل حصاة ويدعو بعد الصغرى والوسطى ، ويجوز له التعجل فينفر من منى إلى مكة قبل غروب الشمس ثم يطوف طواف الوداع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2060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في جميع الأنسا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يوم النفر الثاني ( </a:t>
            </a: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13</a:t>
            </a:r>
            <a:r>
              <a:rPr b="0" lang="ar-SA" sz="4000" spc="-1" strike="noStrike">
                <a:solidFill>
                  <a:srgbClr val="cbcbcb"/>
                </a:solidFill>
                <a:latin typeface="Times New Roman"/>
              </a:rPr>
              <a:t> ذو الحجة )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769840"/>
            <a:ext cx="7772400" cy="346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585000" indent="-58500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 (Arabic)"/>
              </a:rPr>
              <a:t>رمي الجمرات الثلاث بعد الزوال ابتداءً بالصغرى فالوسطى ثم الكبرى ( سبع حصيات لكل جمرة ) يكبر مع كل حصاة ويدعو بعد الصغرى والوسطى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  <a:p>
            <a:pPr marL="585000" indent="-585000" algn="r" rtl="1">
              <a:spcBef>
                <a:spcPts val="799"/>
              </a:spcBef>
              <a:buClr>
                <a:srgbClr val="00ffcc"/>
              </a:buClr>
              <a:buSzPct val="80000"/>
              <a:buFont typeface="Times New Roman (Arabic)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 (Arabic)"/>
              </a:rPr>
              <a:t>مغادرة منى إلى مكة وطواف الوداع وهو واجب وفي تركه دم إلا الحائض والنفساء ثم الرحيل عن مكة .</a:t>
            </a:r>
            <a:endParaRPr b="1" lang="en-US" sz="3200" spc="-1" strike="noStrike">
              <a:solidFill>
                <a:srgbClr val="ffffff"/>
              </a:solidFill>
              <a:latin typeface="Times New Roman (Arabic)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2060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00"/>
                </a:solidFill>
                <a:latin typeface="Times New Roman"/>
              </a:rPr>
              <a:t>في جميع الأنسا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0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6:18:00Z</dcterms:created>
  <dc:creator>Abu Ibrahim</dc:creator>
  <dc:description/>
  <dc:language>en-US</dc:language>
  <cp:lastModifiedBy>maher</cp:lastModifiedBy>
  <dcterms:modified xsi:type="dcterms:W3CDTF">2008-11-17T18:28:56Z</dcterms:modified>
  <cp:revision>7</cp:revision>
  <dc:subject/>
  <dc:title>دليل الحاج اليومي للمفرد والقارن والمتمت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